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03FE-44A6-45DC-BEB6-E2FD5DEE2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1450-F5FD-4BE8-9C48-359F99C4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7153-3B76-445F-920B-1DA48E321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FBEE-81E3-407D-86A7-6C7FD2A44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C9A5-02F2-4577-B966-F0F9CA44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A1B4-AA7E-4E36-9ACC-83C27951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75BE-1BC8-499B-91AE-7D3DCDA8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B678-B564-41B9-8B7A-1BF2BC8D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DB8F-127A-4297-835C-F759057E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C1E1-0161-460A-BC11-6ED2035D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9B95-9D52-44B2-9DE0-6E65B410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0E60-36E5-4B7B-B5E4-FC6DD4F1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ECAF-F725-4F5C-A1EC-234E25E132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Прямоугольник 8" descr=""/>
          <p:cNvPicPr/>
          <p:nvPr/>
        </p:nvPicPr>
        <p:blipFill>
          <a:blip r:embed="rId1"/>
          <a:stretch/>
        </p:blipFill>
        <p:spPr>
          <a:xfrm>
            <a:off x="853920" y="639720"/>
            <a:ext cx="748512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алее модуль вектора скорости и  по формул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2071440"/>
            <a:ext cx="82296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 результате имее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2500200" y="2286000"/>
            <a:ext cx="3962520" cy="12002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2490840" y="4900680"/>
            <a:ext cx="44384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ходим величину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Далее подставляем её в формулу для вектора ускорения и находим частные производные по времени и соответствующим скоростям и ускорения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6429240" y="357120"/>
            <a:ext cx="1285920" cy="11336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1" descr=""/>
          <p:cNvPicPr/>
          <p:nvPr/>
        </p:nvPicPr>
        <p:blipFill>
          <a:blip r:embed="rId2"/>
          <a:stretch/>
        </p:blipFill>
        <p:spPr>
          <a:xfrm>
            <a:off x="2143080" y="1928880"/>
            <a:ext cx="45626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результате этих вычислений будем иметь для проекций вектора ускор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1" descr=""/>
          <p:cNvPicPr/>
          <p:nvPr/>
        </p:nvPicPr>
        <p:blipFill>
          <a:blip r:embed="rId1"/>
          <a:stretch/>
        </p:blipFill>
        <p:spPr>
          <a:xfrm>
            <a:off x="2857680" y="2428920"/>
            <a:ext cx="3662280" cy="8571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2786040" y="3643200"/>
            <a:ext cx="3619440" cy="7858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3"/>
          <a:stretch/>
        </p:blipFill>
        <p:spPr>
          <a:xfrm>
            <a:off x="4071960" y="4857840"/>
            <a:ext cx="14731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дставляя найденные проекции в формулу для модуля вектора ускорения находи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 этом выражении также можно раскрыть сумму квадратов и привести подобные слагаемы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449280" y="990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1"/>
          <a:stretch/>
        </p:blipFill>
        <p:spPr>
          <a:xfrm>
            <a:off x="81000" y="3000240"/>
            <a:ext cx="88488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дание для самостоятельного рассмотр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714680"/>
            <a:ext cx="822960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йти модули проекции векторов скорости и ускорения для следующих криволинейных координа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ферические координ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лярные координ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Эллиптические координ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Трёхмерные параболические координ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Для вектора скорости найти также моду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оекция скорости точки в криволинейных координатах определятся выражение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999880"/>
            <a:ext cx="822960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449280" y="181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4" descr=""/>
          <p:cNvPicPr/>
          <p:nvPr/>
        </p:nvPicPr>
        <p:blipFill>
          <a:blip r:embed="rId1"/>
          <a:stretch/>
        </p:blipFill>
        <p:spPr>
          <a:xfrm>
            <a:off x="1643040" y="3000240"/>
            <a:ext cx="578664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ектор и модуль вектора скорости определяется соотношения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ектор скор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Модуль вектора скор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3362400" y="2786040"/>
            <a:ext cx="2066760" cy="12952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2938320" y="4714920"/>
            <a:ext cx="27054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скорение точки в криволинейных координатах определятся выражение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50020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561960" y="3000240"/>
            <a:ext cx="75103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скорение точки (проекция) в криволинейных координатах можно также определить в ви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4071960"/>
            <a:ext cx="8229600" cy="20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д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1928880" y="2428920"/>
            <a:ext cx="5224320" cy="15001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1428840" y="4438800"/>
            <a:ext cx="128592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одуль вектора ускор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287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где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роекции ускор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3071880" y="2214720"/>
            <a:ext cx="2771640" cy="17049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1481040" y="4529160"/>
            <a:ext cx="5907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00040" y="2000160"/>
            <a:ext cx="8229600" cy="40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Найдём скорость и ускорение точки в цилиндрических координата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В случае цилиндрических координа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И коэффициенты Лямэ имеют ви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1857240" y="1571760"/>
            <a:ext cx="5121360" cy="7142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1857240" y="4000680"/>
            <a:ext cx="539928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дставляя коэффициенты Лямэ в формулы для проекций скорости, имее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3500280" y="2224080"/>
            <a:ext cx="1928880" cy="8953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2"/>
          <a:stretch/>
        </p:blipFill>
        <p:spPr>
          <a:xfrm>
            <a:off x="3500280" y="3395520"/>
            <a:ext cx="2270160" cy="8906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3714840" y="4714920"/>
            <a:ext cx="180972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3:35:00Z</dcterms:created>
  <dc:creator>Михаил</dc:creator>
  <dc:description/>
  <dc:language>en-US</dc:language>
  <cp:lastModifiedBy>Михаил</cp:lastModifiedBy>
  <dcterms:modified xsi:type="dcterms:W3CDTF">2010-10-17T19:42:37Z</dcterms:modified>
  <cp:revision>36</cp:revision>
  <dc:subject/>
  <dc:title>Слайд 1</dc:title>
</cp:coreProperties>
</file>